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19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AB69-D3AC-4D31-AF11-FF8B763CF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7C1A-ECB8-48AE-8135-908EA9899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030E-C0D0-4E34-BB4A-2ED309ECA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0CC3-18CF-4611-89D3-A252E0EFD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Приложение, ссылки на литерату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4BBD-D55E-4BAF-8FF9-1CC7FB89E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17A3-6EE7-4143-9FA8-331B3FBC6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E61249-F9A4-4016-8E43-36205CDE3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6D9D-4D5F-4884-ADCC-940289F3C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96E87D-2648-4AC9-B0B3-3D549DF44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1A84-7190-40D3-B701-D9DA7843B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1E768B-6B4C-4D14-B61E-CC3A35491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FACE-E539-4868-9553-8E8C053E8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9F6490-E14D-479A-A0ED-880266B7A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A2D0-0F90-434C-9168-C7ECC96CB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9BC6-48D6-4FFD-A058-5E6304553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3FF24E-268A-488F-8825-570A34EF9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1295-893D-48D3-AB84-C0DB98404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2CE0-8E72-4A0E-BB75-91411E3C8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739040-83F1-4144-BC70-DFDD93275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C97C-FBAB-48C5-8303-0DCA06247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270A-E208-46C2-9A90-6212DBFA3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B81150-7DAE-4E61-A6F2-78E84E99A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шлитесь на проблемную ситуац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ИТЕ: Какие показатели вы выбер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е обучение персонала новому методу. Удовлетворенность клиентов.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tisfaction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компетентности. Своевременнос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4650-D002-4796-B5FD-B2567919E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8291-EA97-42FC-B320-F9DFCEEDA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 использованием Бережливости в прило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5AD1-4840-4C81-8AF8-08E94C2F3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9935-AB37-49AA-B934-AF82F051E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33FB-4C4B-4655-A4E7-CB91E11F12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C4EE-A988-4A7C-8C3E-CCE18A731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A03D15-9EAB-40E0-A6F8-569A6C08E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В. Эдвардса Деминга – одного из гигантов каче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15-А содержит все 14 принц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C662-A421-477D-AB8C-A788CB5F3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34EF-319B-49D1-9B2F-986CF05B4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A638-A252-4FBD-971B-A44F29BCF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7C6CEA-D82A-487B-8132-01C0DBE25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03C07-F033-4228-B001-6111643C1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4F41D-9ADE-4C92-8B00-B515573324A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5A310C-33F0-4DC7-834E-0B1662F9E23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F45996-9FD3-4BDC-9746-06019375E7F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5AE1D6-E14A-44C6-B409-47448C41BF6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AB513D-0E17-4311-A699-44B5C260162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6C7D0E-DD0D-4947-8970-B07857EAB77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F1DCFC-5A23-43A2-AE5C-34F60C36A51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716B63-87FA-4B26-958B-DE8C263F993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A3AA44-3E55-4297-B209-4E47AFBD5F9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808925-4102-4938-9ABE-AAD7CBD63C2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EDDAB0-BC9A-451A-A6C3-97BBAF1F8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41914-F06F-4583-9D5E-71892849001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9B2DBD-4A7A-44C6-AF22-AAFE77BD83A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DE6E88-6E12-4204-97C0-4BFAD21338A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1D4E90-BBB4-499F-B660-C92D8338976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16BA17-DE7B-4385-8E82-2B8D2056988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7FC522-7001-4E7E-B856-300B17375CE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41A0CC-BF85-4F97-B6C7-8BAC32ECB03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21F9F7-3208-4825-AC47-2C4881C4C61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D8D2D3-F540-4E59-A5B7-AAD717D92E2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6F33D5-2379-4E4C-8C1B-91A6EB08799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A9E2D7-3451-40AA-B383-538A651E8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C8320-7928-4BA0-99D1-B81E620C19F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FADF57-5743-4D79-BD2C-D412C5A3B5F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80706-F767-4D36-911C-D5720F1780C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103EE-14BB-4A07-83B7-D51372DA0F5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40E3B-2BCD-44C7-BB40-DD109C09148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C1A1D-4A0F-4377-A18E-21F286DBD4B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E8226-46F1-48B9-8246-1F1B7D38AF3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4B3A1-75D7-47EB-84D2-9E9E95FF5A6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6CD15-ECF6-4EA9-ACF4-F59AFFA1600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9F6B6-89AB-4744-AA60-DAA8862BD87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60913-F244-47A5-9410-407EB9FCE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B411-2DCA-4A6C-9C7D-B1EF57FB43C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6899C-32F1-491E-AA95-33283A847AF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B4513-7EEA-4F1B-A148-026998717F0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F4B8F-2DE8-483F-A918-A9D9F2D910C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ED05C2-4BD6-4D9A-9F8C-5006B24AD87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51D5CB-18A1-40BA-892D-CF1048DB5D1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2FEA94-0339-42DC-819C-1BAB3D8B146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9E1494-D13E-42BF-AF47-AB2DA1B6662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637ACB-3399-40D7-A5A1-F007FD18351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BE060C-AA6C-4922-9BF0-8686B44A46F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973B3A-1AF9-4C87-A1B0-DE9CA2C42E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FE75-C923-4B14-BF2C-502DB77C772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FB8EED-0041-4770-9BD6-DA7852E005E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F68517-511A-4CA9-918C-EB12F6F1663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2D8724-5CA8-4481-A932-1919C17493E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514EBD-D713-486B-B62C-4F63FC3DD70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5D394F-7B18-4FA4-A1EF-3F7B4CD8DB4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2F891-286B-4CD9-B143-3B9CC2D51D8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D3D09-7AE3-4E9D-B473-936F34BC4C2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9B1F07-AAA2-4040-9ACC-09CE8AB4B87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6FE562-1FE4-41AA-BAB8-95475AF87E0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195F99-A259-4AA7-B2EF-9D10EDD990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04A-0D23-48C8-88E0-D679B16F64A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157A4-5B0A-4C30-A12A-6EBB4DE80EB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9107B7-E614-4ED9-8CC0-30AABB16B3A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3F7EC7-0C48-4AF9-BB87-45F5DADB002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FF60E5-E836-4C27-8070-C912076CAF0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FCC36B-6080-421C-A8CA-FC605B3F7B4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D94F9D-4DC8-4618-9363-BE0D726D57B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A969F8-8197-46C5-B9DC-DF59C5F9FAE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038A7-1E98-4CD7-A2DF-24AD098A240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24BFD-266A-46CD-9CBE-BE486049FD3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0A6A5-EFA8-4340-9198-B5F3B8C51B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981B-E969-4969-9D5F-1757AA74C15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34B16-939C-4710-90A6-1134EF15DF8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30731-6EC6-4C9B-8259-7A4AD9AD7F4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5F053-6504-4404-A8D8-58E6CF6E90F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9C7B9-8013-4A3B-816C-218725E4859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20201-893E-4C5B-93A4-4DA2DFE8F2A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71445-D380-4718-9EDD-95B43897789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EE925-5617-4C11-8FF8-67A7BA67D54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C59E4-C228-4B4E-9E9B-56D39607CD4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E1673-3DFF-4820-B3A1-E7CE83627ED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334F68-E6DB-4F43-A09C-07AA91314D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2FE-6533-47D2-97D0-0C14F71DB35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4E5380-8D15-447B-9BE7-23A8A6FE570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4517E1-8BA1-48C4-8D3E-21AFD494DE7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EFD7E0-5902-4E35-8BA2-CC73A8B0095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98C376-3BF7-4963-80E1-35164E6C553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D9411C-D5D6-4AB8-8AC2-EDB2AE9019A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82A1DD-5908-41A4-89D0-BAF7E5C83B4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F1D926-09AA-46AD-8361-8C205FFED5D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9E3D03-352B-470D-BF6D-F5E5091F4C1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D1F380-EA45-4359-91A4-1225E390A2A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08CAFC-A2F9-4C7D-8C11-0FE7611099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07F6-0AD1-4DB2-8D5C-3BBAE982C7E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C61002-D9C2-4906-B05F-3E491B6A0A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FA1A-CFBF-4589-8E04-5BAFB657B1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2D36D-57F2-4836-BB8B-E355E97FAC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A7BC-8834-4999-A62E-0CE199B420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037D-483E-4C7A-A0FE-B65A430CF1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6FE0-C44C-4F14-B56D-4A0C5183D7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BC5D-CA9E-414C-9AB4-261C36FF09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CAD-1F8E-4351-9831-321E407E37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0489E-13CD-4611-AECA-2A96806A12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1E437-FA50-4250-8049-EA33AAD73F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CFAC7-049D-4AA4-83A4-CA2D5682FB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B5199-C365-4889-887E-1C96BDBFAC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DBE9F-E258-41E7-A065-493412803B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BCD7B-BFDC-427D-9F1B-0CC4943B3D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4E48D-044B-412F-BC28-B125E121BA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56F26-6912-4CF4-8E30-496E065F75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4EE9C-38C1-4298-A38C-E04F95BCCA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19834-2942-4402-9227-B3EE395A61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127DE-BFC8-48F4-A94A-6657615FB9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1AE4F-A2F4-45D8-BCD8-0FE0586039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C4BA8-0E82-429B-B40E-20E230ED007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193B5F-47DB-4F85-B1BE-BE78BBE032C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63B6CA-7705-49FF-83FF-594FD617586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B70568-1CE5-4AD0-8791-1A8F84BCF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A763B-23F0-4CCA-80D2-F2C619D8B7E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E0AE7C-4917-4584-AF89-E18FAB94F31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E15924-09B0-44BD-8ACB-4646CA9F117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772FAE-2757-4741-B3A9-AD74FF83F69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6D61DF-EE2D-480A-8EBB-908BA06E413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315E87-2866-47EF-9213-5FDDD5ADDBB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C88D8E-FD14-4D52-BCB1-40B989E300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F1C438-164D-4A2D-A0B2-49996738D61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AF556F-6824-4FEB-9921-78F7F650738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A22551-F3B0-4AF5-BBED-CB2AD3214D4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EA277-BFAF-4528-B673-9B6A907F1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DAEFA-15EF-48C1-BD4A-962ABE58902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43D1C-41E1-42CF-81E8-7420B46C54E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932A1-516A-4E22-91C1-7455296801D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2003B-1A7A-4C5F-AD36-800A34DE4A9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3D59D-6F54-4A68-808D-6E6237797F1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6EEB3-62A0-498D-B1CB-33A80EB856D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40767-D6DE-41F7-AF9A-859B92D141A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4DA9F-614C-404E-9327-BC8F438661A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95296-2EFC-472A-8348-09FF6DB36F9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F0759-1FFD-4702-BB57-BBDE4B2F39C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E3784-BB01-4A05-9FFA-DD5A86C6A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A0BCE-BAAA-4B3D-9EA0-5E7E2EBB003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5CFB5-6A03-4E8A-867D-0FF7EDF0D78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A95811-C72D-4B9E-A1E8-184E6B33520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A740FC-EE66-4759-9252-8F1E208E7C2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4C8C41-187A-4F3C-8C8E-2EE55E41503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959C63-4ED0-444E-94C3-1717A18E874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4C6432-499C-4ED5-9BDA-57D01983C56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6C5EF9-C7D2-4558-B63D-D71CC82EFDB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961CD5-02CF-49DB-8BAE-FB5126C2C50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559A11-4406-4082-BC57-A70C3E47546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15F81E-C173-46C5-A19A-460F83250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29986-5A66-4127-AB0E-8D9CCD7BFCC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323C0A-1533-45C1-A023-4E79E42DA56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B5A241-D808-4520-9920-EDA99E37A6C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F1E290-71E6-4B91-8E64-AE21B7576FF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10EA8F-BE16-40F5-908C-5F60292E4E3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27BF45-7923-44CB-A679-23DC69C9228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58E96F-7A6C-4F42-BB43-53D10C433DB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62C1B3-AC42-4D50-B6F6-8467CE52DF6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56F74E-0826-4160-A0ED-DE6B3CF7B6A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34AB43-FA5E-4EB4-9AE7-F0F0AADAB01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D955D4-FFDB-40AB-B477-369BD244C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49260-420F-4ECE-B18B-D85B8A224FC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F9E0FE-E934-4260-BFDF-863E5106171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A3512A-30E9-4A67-B3E3-54DA2278F62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AA2F94-ABBC-4D44-84B7-F03F9841F1A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087DA3-65F1-4422-9447-C3BF16749A7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338F1A-6767-4B3C-9263-83BAF814313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F522E-7FAB-4A41-9BF5-733B469D1B8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9A57D-9285-4FBA-826F-C8554F0C266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DD31D-B491-4D5C-B6F4-6ED3D00CB95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2B231-B627-4F60-B8C0-7A5FD2BE432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24D17-4EF9-435D-83E3-EAF705747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CAEA9-B3F1-40EC-A509-7F29AE24265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D7453-1D0A-4221-9407-5965885F965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7EF3F-30A3-4BD5-9719-2A3EBCA63F4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B1695-35A9-4D50-A16C-682C3CE404B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1C2A6-A501-43E4-AC1B-2BF2DDCB498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22F67-0E00-4B90-AC9D-EC0E8F268E2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1F6F2-F903-4DB7-99BD-AD5ABC87A2A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E3F10-A1F0-43CB-A698-9E9A0A5BEEC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EA81B1-AE18-4E33-B6BD-12B50981910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5C9226-D9E2-4073-A6B1-44519262C43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D557EB-DC11-4E64-9CD6-324BD4F16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3F1C-BB59-4824-8448-952DFA71B0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5B61-DA2C-4B95-9C22-30D057F8EC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6617-BBE5-44B1-B17F-694BEA3B6F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2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2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FCF6-5EA7-4B41-A557-A654EAEBF0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2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6523-D5AB-4589-9B01-4BEE4C253E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2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B569-3431-4BB0-BD79-594A113783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6B0D-76BC-46A8-95B6-B43AB97201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776D-B01D-4D10-A4FD-34C5929664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4746-BA39-4D91-8498-C39BC65C8E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7D36-F09A-4A3D-99A4-7620890644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317A-4A6F-4398-99DC-AEF8675163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DEDA-DC8B-4A07-8E7A-38E105B598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0F08-AD7F-45A1-B178-12D92C6A7B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A381-DE03-43F3-A863-38646D7215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1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22B9-0EB1-4E50-8ACE-F7BE18113F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6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Text Box 16"/>
          <p:cNvSpPr/>
          <p:nvPr/>
        </p:nvSpPr>
        <p:spPr>
          <a:xfrm>
            <a:off x="3200400" y="220968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лучшение 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7DBD-C3A8-4FF3-8E42-06F84AE662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1219320" y="3276720"/>
            <a:ext cx="3276360" cy="3047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тран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ремен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улучшения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транствен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и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457200" y="1182600"/>
            <a:ext cx="426708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Content Placeholder 106514"/>
          <p:cNvGrpSpPr/>
          <p:nvPr/>
        </p:nvGrpSpPr>
        <p:grpSpPr>
          <a:xfrm>
            <a:off x="2438280" y="1822320"/>
            <a:ext cx="4876560" cy="3206520"/>
            <a:chOff x="2438280" y="1822320"/>
            <a:chExt cx="4876560" cy="3206520"/>
          </a:xfrm>
        </p:grpSpPr>
        <p:sp>
          <p:nvSpPr>
            <p:cNvPr id="935" name="_s3076"/>
            <p:cNvSpPr/>
            <p:nvPr/>
          </p:nvSpPr>
          <p:spPr>
            <a:xfrm>
              <a:off x="3218400" y="1822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_s3077"/>
            <p:cNvSpPr/>
            <p:nvPr/>
          </p:nvSpPr>
          <p:spPr>
            <a:xfrm rot="5400000">
              <a:off x="4566960" y="176760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_s3078"/>
            <p:cNvSpPr/>
            <p:nvPr/>
          </p:nvSpPr>
          <p:spPr>
            <a:xfrm rot="10800000">
              <a:off x="3218400" y="2848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_s3079"/>
            <p:cNvSpPr/>
            <p:nvPr/>
          </p:nvSpPr>
          <p:spPr>
            <a:xfrm rot="16200000">
              <a:off x="3006000" y="176796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_s3080"/>
            <p:cNvSpPr/>
            <p:nvPr/>
          </p:nvSpPr>
          <p:spPr>
            <a:xfrm>
              <a:off x="5759640" y="20224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_s3081"/>
            <p:cNvSpPr/>
            <p:nvPr/>
          </p:nvSpPr>
          <p:spPr>
            <a:xfrm>
              <a:off x="2746440" y="40078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_s3082"/>
            <p:cNvSpPr/>
            <p:nvPr/>
          </p:nvSpPr>
          <p:spPr>
            <a:xfrm>
              <a:off x="2742480" y="202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_s3083"/>
            <p:cNvSpPr/>
            <p:nvPr/>
          </p:nvSpPr>
          <p:spPr>
            <a:xfrm>
              <a:off x="5761440" y="400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29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B59D-F0AC-4C0F-8CE5-716D503B24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94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ути передвижения лаборанта во время выполнения работы при культивировании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До «Бережливости»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осле «Бережлив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5331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4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  <a:ea typeface="Verdana"/>
              </a:rPr>
              <a:t>Формальная структура планирования проектов для внедрения изменений и улучшен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5C20-3F49-41B1-A31C-C9717F9AE9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9" descr="six-sigma"/>
          <p:cNvPicPr/>
          <p:nvPr/>
        </p:nvPicPr>
        <p:blipFill>
          <a:blip r:embed="rId1"/>
          <a:stretch/>
        </p:blipFill>
        <p:spPr>
          <a:xfrm>
            <a:off x="4400640" y="4191120"/>
            <a:ext cx="2990880" cy="200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4" name="Text Box 29"/>
          <p:cNvSpPr/>
          <p:nvPr/>
        </p:nvSpPr>
        <p:spPr>
          <a:xfrm>
            <a:off x="45720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73EF-052F-4CD5-AE43-9681EA320A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в «Шести сигмах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ы организованы так, чтобы помочь  в принятии решений для непрерывного улучш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пред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зм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ализиру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лучш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743200"/>
            <a:ext cx="3570120" cy="3581280"/>
          </a:xfrm>
          <a:prstGeom prst="rect">
            <a:avLst/>
          </a:prstGeom>
          <a:ln w="0">
            <a:noFill/>
          </a:ln>
        </p:spPr>
      </p:pic>
      <p:sp>
        <p:nvSpPr>
          <p:cNvPr id="960" name="AutoShape 6"/>
          <p:cNvSpPr/>
          <p:nvPr/>
        </p:nvSpPr>
        <p:spPr>
          <a:xfrm rot="16863600">
            <a:off x="3222720" y="3022200"/>
            <a:ext cx="4343400" cy="213372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720"/>
              <a:gd name="textAreaBottom" fmla="*/ 18478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1"/>
          <p:cNvSpPr/>
          <p:nvPr/>
        </p:nvSpPr>
        <p:spPr>
          <a:xfrm>
            <a:off x="6381720" y="3429000"/>
            <a:ext cx="1314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7237080" y="4038480"/>
            <a:ext cx="139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пре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9"/>
          <p:cNvSpPr/>
          <p:nvPr/>
        </p:nvSpPr>
        <p:spPr>
          <a:xfrm>
            <a:off x="7130880" y="4964040"/>
            <a:ext cx="1479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зм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0"/>
          <p:cNvSpPr/>
          <p:nvPr/>
        </p:nvSpPr>
        <p:spPr>
          <a:xfrm>
            <a:off x="5486400" y="4979880"/>
            <a:ext cx="1790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нализир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5486400" y="3973680"/>
            <a:ext cx="1523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луч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BE74-B179-44AB-9D3E-81027599CB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160" y="464760"/>
            <a:ext cx="60195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Что есть качество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609480" y="1130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Качество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брокаче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тонч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»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4290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5"/>
          <p:cNvSpPr/>
          <p:nvPr/>
        </p:nvSpPr>
        <p:spPr>
          <a:xfrm>
            <a:off x="2590920" y="3809880"/>
            <a:ext cx="5029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ыре основных принципа управления ка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952C-4B82-432E-91C9-DAE7CEFB2A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пределение показателя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становленный критерий, используемый для определения того, насколько хорошо организация выполняет запросы и соответствует ожиданиям по проведению работы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9001: 2000 (5.4.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; 8.4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15189:200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(4.12.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9395-DE17-45C0-92C1-034C443CE2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5943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аким образом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…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дают информацию об эффективности раб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являют проблемные участ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участки, которые необходимо дополнительно изуч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едят за динамикой изменен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A326-1346-4607-8518-BC98F67DD8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 оценки работ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80520" y="1174320"/>
            <a:ext cx="85345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лучше меньше показателей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ивяжите к факторам, требующимся для успех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нованы на потребностях клиентов и других заинтересованных стор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чните с руководства и двигайтесь вн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меняйте в соответствии с внешними переменами и изменениями в страте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станавливайте цели и задачи на основе исследований, а не на произвольных оценк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арк Грэм Бра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3043-8611-4C01-9FBC-C180C30ABC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осемь шагов на пути разработки работающих показа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568160"/>
            <a:ext cx="4419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л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ет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е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нтерпре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грани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ставление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завер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8" name="Picture 4" descr="j0427771"/>
          <p:cNvPicPr/>
          <p:nvPr/>
        </p:nvPicPr>
        <p:blipFill>
          <a:blip r:embed="rId1"/>
          <a:stretch/>
        </p:blipFill>
        <p:spPr>
          <a:xfrm>
            <a:off x="5192640" y="1676520"/>
            <a:ext cx="357048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E926-E0E9-487B-8A1E-0976A4F064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БОЛЬШОЙ СЕКРЕТ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анды по показателям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572000" cy="31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влеките народ, который делает работу, потому что они знают, что они делаю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213372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56CD-1A55-49FE-8BF2-E9063C6FED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ередать историю улучшения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значение улучшения процессов для поддержания каче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потребность в средствах контроля лабораторных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457200" y="43704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E9D7-A796-40DD-BE0E-047C506AFA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4902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арактеристик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997" name="Diagram 25"/>
          <p:cNvGrpSpPr/>
          <p:nvPr/>
        </p:nvGrpSpPr>
        <p:grpSpPr>
          <a:xfrm>
            <a:off x="457200" y="1143000"/>
            <a:ext cx="8457840" cy="5159160"/>
            <a:chOff x="457200" y="1143000"/>
            <a:chExt cx="8457840" cy="5159160"/>
          </a:xfrm>
        </p:grpSpPr>
        <p:sp>
          <p:nvSpPr>
            <p:cNvPr id="998" name="AutoShape 26"/>
            <p:cNvSpPr/>
            <p:nvPr/>
          </p:nvSpPr>
          <p:spPr>
            <a:xfrm>
              <a:off x="457200" y="1143000"/>
              <a:ext cx="8457840" cy="5159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_s4100"/>
            <p:cNvSpPr/>
            <p:nvPr/>
          </p:nvSpPr>
          <p:spPr>
            <a:xfrm flipH="1" flipV="1">
              <a:off x="2941920" y="2920320"/>
              <a:ext cx="798120" cy="39780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_s4101"/>
            <p:cNvSpPr/>
            <p:nvPr/>
          </p:nvSpPr>
          <p:spPr>
            <a:xfrm>
              <a:off x="837720" y="1524240"/>
              <a:ext cx="2890440" cy="1523880"/>
            </a:xfrm>
            <a:prstGeom prst="ellipse">
              <a:avLst/>
            </a:prstGeom>
            <a:solidFill>
              <a:srgbClr val="8989e5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ривяз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раткосрочные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долгосро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_s4102"/>
            <p:cNvSpPr/>
            <p:nvPr/>
          </p:nvSpPr>
          <p:spPr>
            <a:xfrm flipH="1">
              <a:off x="2552760" y="3863160"/>
              <a:ext cx="989280" cy="1465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_s4103"/>
            <p:cNvSpPr/>
            <p:nvPr/>
          </p:nvSpPr>
          <p:spPr>
            <a:xfrm>
              <a:off x="609120" y="3200400"/>
              <a:ext cx="2363040" cy="1294200"/>
            </a:xfrm>
            <a:prstGeom prst="ellipse">
              <a:avLst/>
            </a:prstGeom>
            <a:solidFill>
              <a:srgbClr val="7a7acc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хватываю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все уров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_s4104"/>
            <p:cNvSpPr/>
            <p:nvPr/>
          </p:nvSpPr>
          <p:spPr>
            <a:xfrm flipH="1">
              <a:off x="3047040" y="4344840"/>
              <a:ext cx="681120" cy="9367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_s4105"/>
            <p:cNvSpPr/>
            <p:nvPr/>
          </p:nvSpPr>
          <p:spPr>
            <a:xfrm>
              <a:off x="837720" y="4724280"/>
              <a:ext cx="2896200" cy="1287000"/>
            </a:xfrm>
            <a:prstGeom prst="ellipse">
              <a:avLst/>
            </a:prstGeom>
            <a:solidFill>
              <a:srgbClr val="8282d9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балансиров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полный цик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_s4106"/>
            <p:cNvSpPr/>
            <p:nvPr/>
          </p:nvSpPr>
          <p:spPr>
            <a:xfrm>
              <a:off x="4978440" y="4300200"/>
              <a:ext cx="532440" cy="75528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_s4108"/>
            <p:cNvSpPr/>
            <p:nvPr/>
          </p:nvSpPr>
          <p:spPr>
            <a:xfrm>
              <a:off x="5524920" y="3863160"/>
              <a:ext cx="992880" cy="14256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4109"/>
            <p:cNvSpPr/>
            <p:nvPr/>
          </p:nvSpPr>
          <p:spPr>
            <a:xfrm>
              <a:off x="5854320" y="3809520"/>
              <a:ext cx="2984400" cy="1294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нтерпретиру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конкр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4110"/>
            <p:cNvSpPr/>
            <p:nvPr/>
          </p:nvSpPr>
          <p:spPr>
            <a:xfrm flipV="1">
              <a:off x="5326920" y="2744640"/>
              <a:ext cx="1120680" cy="57384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4111"/>
            <p:cNvSpPr/>
            <p:nvPr/>
          </p:nvSpPr>
          <p:spPr>
            <a:xfrm>
              <a:off x="6079320" y="1903680"/>
              <a:ext cx="2488680" cy="1288800"/>
            </a:xfrm>
            <a:prstGeom prst="ellips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Доступ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четко очерч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4112"/>
            <p:cNvSpPr/>
            <p:nvPr/>
          </p:nvSpPr>
          <p:spPr>
            <a:xfrm flipV="1">
              <a:off x="4533840" y="2477520"/>
              <a:ext cx="468720" cy="6001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4113"/>
            <p:cNvSpPr/>
            <p:nvPr/>
          </p:nvSpPr>
          <p:spPr>
            <a:xfrm>
              <a:off x="3886200" y="1218240"/>
              <a:ext cx="2193120" cy="1290960"/>
            </a:xfrm>
            <a:prstGeom prst="ellips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змеря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бъек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_s4114"/>
            <p:cNvSpPr/>
            <p:nvPr/>
          </p:nvSpPr>
          <p:spPr>
            <a:xfrm>
              <a:off x="3429360" y="2742840"/>
              <a:ext cx="2513520" cy="20574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Хорош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показател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качеств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_s4107"/>
            <p:cNvSpPr/>
            <p:nvPr/>
          </p:nvSpPr>
          <p:spPr>
            <a:xfrm>
              <a:off x="4238280" y="4800600"/>
              <a:ext cx="2391480" cy="1425600"/>
            </a:xfrm>
            <a:prstGeom prst="ellipse">
              <a:avLst/>
            </a:prstGeom>
            <a:solidFill>
              <a:srgbClr val="8d8deb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ук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 действ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риенти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C833-DF7C-44B3-83A8-E8F4FAF4A7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5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дведение итог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4920" y="1387440"/>
            <a:ext cx="85341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«Многие организации тратят тысячи часов на сбор и интерпретацию данных. Однако большая часть этого времени оказывается потраченной впустую, потому что анализируются неправильные измерения, что ведет к принятию неправильных решений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990720" y="4648320"/>
            <a:ext cx="77724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к Грэм Брау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пользование правильных метрик для достижения высокого класса работы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2309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пьютерные показатели бессмыслиц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697D-62CE-47A2-B29F-37FBEE357C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721960" y="1839960"/>
            <a:ext cx="42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 мо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590920" y="2322360"/>
            <a:ext cx="48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3062160" y="2398680"/>
            <a:ext cx="394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тне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ч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фон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мину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7094160" y="20080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4724280" y="36972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лько потому что компьютер может что</a:t>
            </a:r>
            <a:r>
              <a:rPr b="0" i="1" lang="ru-RU" sz="28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 посчит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,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 это не значит, что это стоит дел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9" descr="j0290897[1]"/>
          <p:cNvPicPr/>
          <p:nvPr/>
        </p:nvPicPr>
        <p:blipFill>
          <a:blip r:embed="rId1"/>
          <a:stretch/>
        </p:blipFill>
        <p:spPr>
          <a:xfrm rot="20365800">
            <a:off x="609120" y="2398320"/>
            <a:ext cx="396252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Примеры показателей качеств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380880" y="1160640"/>
          <a:ext cx="8458200" cy="5011560"/>
        </p:xfrm>
        <a:graphic>
          <a:graphicData uri="http://schemas.openxmlformats.org/drawingml/2006/table">
            <a:tbl>
              <a:tblPr/>
              <a:tblGrid>
                <a:gridCol w="2076480"/>
                <a:gridCol w="1781280"/>
                <a:gridCol w="2595600"/>
                <a:gridCol w="200484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следование</a:t>
                      </a: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 соответствие запроса на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дентификации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правильность анализов, выполненных рядом с пацие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отчеты о критических значениях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время об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нформации о про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орреляция цитологии и биопсии шейки м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мониторинг диабета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крининг гиперлипидем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онтаминация культур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E9C4-8B4D-4CF8-A4DA-A180A40327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Object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4475160"/>
          </a:xfrm>
          <a:prstGeom prst="rect">
            <a:avLst/>
          </a:prstGeom>
          <a:ln w="0">
            <a:noFill/>
          </a:ln>
        </p:spPr>
      </p:pic>
      <p:sp>
        <p:nvSpPr>
          <p:cNvPr id="1033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E8A2-3313-4165-AA6B-E057EDC0F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"/>
          <p:cNvSpPr/>
          <p:nvPr/>
        </p:nvSpPr>
        <p:spPr>
          <a:xfrm>
            <a:off x="533520" y="533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ычно отслеживаемые показате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%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685800" y="556272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сыл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Hilborne L. Developing a core set of laboratory based quality indicators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QLM Conference; 2005 Apr 29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ка основного набора показателей качества для лаборатории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DFD0-BAF7-451B-A0BB-2580FCF56A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Осторожн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еоретическ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, привязанные к результатам лечения пациент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являютс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иболее информативны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о их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уднее всего измер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ишком много переме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большое количество данны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собирать в течение длительного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838080" y="4724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dicare Quality Improvement, Bad Apples or Bad Systems?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ачества системы медицинского обслуживания пенсионеров, плохие яблоки или плохая система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Oval 2"/>
          <p:cNvSpPr/>
          <p:nvPr/>
        </p:nvSpPr>
        <p:spPr>
          <a:xfrm>
            <a:off x="4952880" y="160020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Diagram 3"/>
          <p:cNvGrpSpPr/>
          <p:nvPr/>
        </p:nvGrpSpPr>
        <p:grpSpPr>
          <a:xfrm>
            <a:off x="4674240" y="1371600"/>
            <a:ext cx="4465800" cy="4572000"/>
            <a:chOff x="4674240" y="1371600"/>
            <a:chExt cx="4465800" cy="4572000"/>
          </a:xfrm>
        </p:grpSpPr>
        <p:sp>
          <p:nvSpPr>
            <p:cNvPr id="1045" name="AutoShape 4"/>
            <p:cNvSpPr/>
            <p:nvPr/>
          </p:nvSpPr>
          <p:spPr>
            <a:xfrm>
              <a:off x="4876920" y="137160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_s5124"/>
            <p:cNvSpPr/>
            <p:nvPr/>
          </p:nvSpPr>
          <p:spPr>
            <a:xfrm>
              <a:off x="5595840" y="1714680"/>
              <a:ext cx="2621160" cy="2954160"/>
            </a:xfrm>
            <a:custGeom>
              <a:avLst/>
              <a:gdLst>
                <a:gd name="textAreaLeft" fmla="*/ 384120 w 2621160"/>
                <a:gd name="textAreaRight" fmla="*/ 2237040 w 2621160"/>
                <a:gd name="textAreaTop" fmla="*/ 433440 h 2954160"/>
                <a:gd name="textAreaBottom" fmla="*/ 2520720 h 29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_s5125"/>
            <p:cNvSpPr/>
            <p:nvPr/>
          </p:nvSpPr>
          <p:spPr>
            <a:xfrm rot="7200000">
              <a:off x="5788800" y="257868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_s5126"/>
            <p:cNvSpPr/>
            <p:nvPr/>
          </p:nvSpPr>
          <p:spPr>
            <a:xfrm rot="14400000">
              <a:off x="5070960" y="258156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_s5127"/>
            <p:cNvSpPr/>
            <p:nvPr/>
          </p:nvSpPr>
          <p:spPr>
            <a:xfrm>
              <a:off x="76248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_s5128"/>
            <p:cNvSpPr/>
            <p:nvPr/>
          </p:nvSpPr>
          <p:spPr>
            <a:xfrm>
              <a:off x="6380280" y="468324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_s5129"/>
            <p:cNvSpPr/>
            <p:nvPr/>
          </p:nvSpPr>
          <p:spPr>
            <a:xfrm>
              <a:off x="51354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3"/>
            <p:cNvSpPr/>
            <p:nvPr/>
          </p:nvSpPr>
          <p:spPr>
            <a:xfrm>
              <a:off x="5029200" y="25336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Непрерывно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улучш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AFBF-660F-43C4-8B7E-D0DADAD902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элементы внедрени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457200" y="129528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4"/>
          <p:cNvSpPr/>
          <p:nvPr/>
        </p:nvSpPr>
        <p:spPr>
          <a:xfrm>
            <a:off x="152280" y="1371600"/>
            <a:ext cx="4800600" cy="4495680"/>
          </a:xfrm>
          <a:prstGeom prst="rightArrowCallout">
            <a:avLst>
              <a:gd name="adj1" fmla="val 25002"/>
              <a:gd name="adj2" fmla="val 25000"/>
              <a:gd name="adj3" fmla="val 17797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5"/>
          <p:cNvSpPr/>
          <p:nvPr/>
        </p:nvSpPr>
        <p:spPr>
          <a:xfrm>
            <a:off x="152280" y="1795320"/>
            <a:ext cx="3429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ривер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Вовлеч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ланирова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3684-E566-4511-AC07-6BC58666F3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tebulb"/>
          <p:cNvSpPr/>
          <p:nvPr/>
        </p:nvSpPr>
        <p:spPr>
          <a:xfrm>
            <a:off x="4952880" y="838080"/>
            <a:ext cx="4038840" cy="5257800"/>
          </a:xfrm>
          <a:custGeom>
            <a:avLst/>
            <a:gdLst>
              <a:gd name="textAreaLeft" fmla="*/ 664920 w 4038840"/>
              <a:gd name="textAreaRight" fmla="*/ 3417480 w 4038840"/>
              <a:gd name="textAreaTop" fmla="*/ 532440 h 5257800"/>
              <a:gd name="textAreaBottom" fmla="*/ 2259360 h 52578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0" y="1219320"/>
            <a:ext cx="53341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читывайт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орневые причины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правление р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бои, потенциальные сбои и ситуации на грани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тоимость, выигрыш и приор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на бе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62485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шибк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0"/>
          <p:cNvSpPr/>
          <p:nvPr/>
        </p:nvSpPr>
        <p:spPr>
          <a:xfrm>
            <a:off x="5334120" y="1523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бо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13"/>
          <p:cNvSpPr/>
          <p:nvPr/>
        </p:nvSpPr>
        <p:spPr>
          <a:xfrm>
            <a:off x="6858000" y="2443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игры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640080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оритет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F7A5-9E25-4732-B0F2-4E86538769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-360" y="1352520"/>
            <a:ext cx="6172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ет благоприятную среду для улучш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крыт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аждого могут быть ценные иде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ерженност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улучшения будут иметь мес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мож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участв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BC4C-68F1-4C2F-9DBF-FB68C2E65E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аст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не всегда знает, чт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ю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лаю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стоянного улучшения требу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кома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E219-3801-443D-8FBC-B977D31AF7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320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162080"/>
            <a:ext cx="723888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 внедрили в лаборатории новый анализ на СД4. Ваши сотрудники прошли обучение и уверенно выполняют эти анализы. Метод был проверен, отчеты с результатами выдаются, и «кажется», что анализ работает 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457200" y="4581360"/>
            <a:ext cx="8458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вы можете убедиться, что анализ хорошо работает в настоящем и будет так же хорошо работать в будущ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31E8-1128-488B-8E97-681964FE7E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Text Box 7"/>
          <p:cNvSpPr/>
          <p:nvPr/>
        </p:nvSpPr>
        <p:spPr>
          <a:xfrm>
            <a:off x="609480" y="1390680"/>
            <a:ext cx="7543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ин проект каждые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сяцев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график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7"/>
          <p:cNvGrpSpPr/>
          <p:nvPr/>
        </p:nvGrpSpPr>
        <p:grpSpPr>
          <a:xfrm>
            <a:off x="228600" y="3063960"/>
            <a:ext cx="8686800" cy="3184560"/>
            <a:chOff x="228600" y="3063960"/>
            <a:chExt cx="8686800" cy="3184560"/>
          </a:xfrm>
        </p:grpSpPr>
        <p:pic>
          <p:nvPicPr>
            <p:cNvPr id="1085" name="Picture 10" descr="gantt-process-improvement"/>
            <p:cNvPicPr/>
            <p:nvPr/>
          </p:nvPicPr>
          <p:blipFill>
            <a:blip r:embed="rId1"/>
            <a:stretch/>
          </p:blipFill>
          <p:spPr>
            <a:xfrm>
              <a:off x="228600" y="3063960"/>
              <a:ext cx="868680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Text Box 11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ид раб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3"/>
            <p:cNvSpPr/>
            <p:nvPr/>
          </p:nvSpPr>
          <p:spPr>
            <a:xfrm>
              <a:off x="304920" y="443088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 Сбор образцов – гематолог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4"/>
            <p:cNvSpPr/>
            <p:nvPr/>
          </p:nvSpPr>
          <p:spPr>
            <a:xfrm>
              <a:off x="304920" y="4811760"/>
              <a:ext cx="327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. Время оборота ИФ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5"/>
            <p:cNvSpPr/>
            <p:nvPr/>
          </p:nvSpPr>
          <p:spPr>
            <a:xfrm>
              <a:off x="304920" y="5268960"/>
              <a:ext cx="449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. Жалобы врачей – мазки на КУБ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6"/>
            <p:cNvSpPr/>
            <p:nvPr/>
          </p:nvSpPr>
          <p:spPr>
            <a:xfrm>
              <a:off x="304920" y="5638680"/>
              <a:ext cx="592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. Контроль качества химического оборудова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CA02-85AB-4F74-A909-ED32891595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457200" y="1041480"/>
            <a:ext cx="822960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ействуйте командой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ле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трудников-исполнител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286C-B59E-405A-A893-2BDCC15DA4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5"/>
          <p:cNvSpPr/>
          <p:nvPr/>
        </p:nvSpPr>
        <p:spPr>
          <a:xfrm>
            <a:off x="1371600" y="12193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спользуйте инструменты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9"/>
          <p:cNvSpPr/>
          <p:nvPr/>
        </p:nvSpPr>
        <p:spPr>
          <a:xfrm>
            <a:off x="533520" y="2536920"/>
            <a:ext cx="3809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5209-2D8D-4178-A079-4D52E151AC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13" descr="manuals"/>
          <p:cNvPicPr/>
          <p:nvPr/>
        </p:nvPicPr>
        <p:blipFill>
          <a:blip r:embed="rId1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5"/>
          <p:cNvSpPr/>
          <p:nvPr/>
        </p:nvSpPr>
        <p:spPr>
          <a:xfrm>
            <a:off x="550800" y="1112760"/>
            <a:ext cx="767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равляйте и предупреждайте неправильное выполнени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0" descr=""/>
          <p:cNvPicPr/>
          <p:nvPr/>
        </p:nvPicPr>
        <p:blipFill>
          <a:blip r:embed="rId2"/>
          <a:srcRect l="16994" t="4707" r="0" b="14122"/>
          <a:stretch/>
        </p:blipFill>
        <p:spPr>
          <a:xfrm>
            <a:off x="609480" y="194472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12"/>
          <p:cNvSpPr/>
          <p:nvPr/>
        </p:nvSpPr>
        <p:spPr>
          <a:xfrm>
            <a:off x="4038480" y="1905120"/>
            <a:ext cx="2819520" cy="205740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0"/>
          <p:cNvSpPr/>
          <p:nvPr/>
        </p:nvSpPr>
        <p:spPr>
          <a:xfrm>
            <a:off x="2514600" y="274320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5"/>
          <p:cNvSpPr/>
          <p:nvPr/>
        </p:nvSpPr>
        <p:spPr>
          <a:xfrm>
            <a:off x="533520" y="4724280"/>
            <a:ext cx="4038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итывайтесь о результатах руководству и сотруд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6840" y="1218960"/>
            <a:ext cx="8458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изучения используйте доступную информацию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ложения и жалобы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ошибки, выявле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программой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управлени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нештатными ситуация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л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утренними аудит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A677-0C3C-4929-94D6-DC6A8C66C7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9" descr="6216_thumb"/>
          <p:cNvPicPr/>
          <p:nvPr/>
        </p:nvPicPr>
        <p:blipFill>
          <a:blip r:embed="rId1"/>
          <a:stretch/>
        </p:blipFill>
        <p:spPr>
          <a:xfrm>
            <a:off x="6095880" y="2895480"/>
            <a:ext cx="2743200" cy="1782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0" descr="j0409007"/>
          <p:cNvPicPr/>
          <p:nvPr/>
        </p:nvPicPr>
        <p:blipFill>
          <a:blip r:embed="rId2"/>
          <a:stretch/>
        </p:blipFill>
        <p:spPr>
          <a:xfrm>
            <a:off x="5611680" y="3772080"/>
            <a:ext cx="1779840" cy="2666880"/>
          </a:xfrm>
          <a:prstGeom prst="rect">
            <a:avLst/>
          </a:prstGeom>
          <a:ln w="0">
            <a:noFill/>
          </a:ln>
        </p:spPr>
      </p:pic>
      <p:sp>
        <p:nvSpPr>
          <p:cNvPr id="1119" name="WordArt 11"/>
          <p:cNvSpPr txBox="1"/>
          <p:nvPr/>
        </p:nvSpPr>
        <p:spPr>
          <a:xfrm>
            <a:off x="6095880" y="5562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28600" y="1219320"/>
            <a:ext cx="86868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возможности,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планируйте исследование так, чтобы результаты были статистически обработаны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7844-1EDC-4D1C-BDDA-75FD601BD3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oup 3"/>
          <p:cNvGrpSpPr/>
          <p:nvPr/>
        </p:nvGrpSpPr>
        <p:grpSpPr>
          <a:xfrm>
            <a:off x="380880" y="2209680"/>
            <a:ext cx="8686800" cy="4058280"/>
            <a:chOff x="380880" y="2209680"/>
            <a:chExt cx="8686800" cy="4058280"/>
          </a:xfrm>
        </p:grpSpPr>
        <p:grpSp>
          <p:nvGrpSpPr>
            <p:cNvPr id="1125" name="Group 9"/>
            <p:cNvGrpSpPr/>
            <p:nvPr/>
          </p:nvGrpSpPr>
          <p:grpSpPr>
            <a:xfrm>
              <a:off x="380880" y="2209680"/>
              <a:ext cx="8686800" cy="4058280"/>
              <a:chOff x="380880" y="2209680"/>
              <a:chExt cx="8686800" cy="4058280"/>
            </a:xfrm>
          </p:grpSpPr>
          <p:pic>
            <p:nvPicPr>
              <p:cNvPr id="1126" name="Picture 6" descr="lean_6_pre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209680"/>
                <a:ext cx="2959200" cy="297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Picture 7" descr="lean_7_post"/>
              <p:cNvPicPr/>
              <p:nvPr/>
            </p:nvPicPr>
            <p:blipFill>
              <a:blip r:embed="rId2"/>
              <a:stretch/>
            </p:blipFill>
            <p:spPr>
              <a:xfrm>
                <a:off x="5257800" y="2286000"/>
                <a:ext cx="297180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Rectangle 8"/>
              <p:cNvSpPr/>
              <p:nvPr/>
            </p:nvSpPr>
            <p:spPr>
              <a:xfrm>
                <a:off x="380880" y="5200560"/>
                <a:ext cx="4267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ДО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8"/>
              <p:cNvSpPr/>
              <p:nvPr/>
            </p:nvSpPr>
            <p:spPr>
              <a:xfrm>
                <a:off x="4570560" y="5192640"/>
                <a:ext cx="4497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ПОСЛЕ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TextBox 4"/>
            <p:cNvSpPr/>
            <p:nvPr/>
          </p:nvSpPr>
          <p:spPr>
            <a:xfrm>
              <a:off x="3047760" y="4284000"/>
              <a:ext cx="30456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Box 14"/>
            <p:cNvSpPr/>
            <p:nvPr/>
          </p:nvSpPr>
          <p:spPr>
            <a:xfrm>
              <a:off x="6553080" y="4359960"/>
              <a:ext cx="38088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Box 15"/>
            <p:cNvSpPr/>
            <p:nvPr/>
          </p:nvSpPr>
          <p:spPr>
            <a:xfrm>
              <a:off x="7391520" y="3401640"/>
              <a:ext cx="380880" cy="28728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Box 16"/>
            <p:cNvSpPr/>
            <p:nvPr/>
          </p:nvSpPr>
          <p:spPr>
            <a:xfrm>
              <a:off x="2087640" y="2872080"/>
              <a:ext cx="252000" cy="25200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Box 17"/>
            <p:cNvSpPr/>
            <p:nvPr/>
          </p:nvSpPr>
          <p:spPr>
            <a:xfrm>
              <a:off x="1676160" y="3632400"/>
              <a:ext cx="41148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Box 18"/>
            <p:cNvSpPr/>
            <p:nvPr/>
          </p:nvSpPr>
          <p:spPr>
            <a:xfrm>
              <a:off x="6120000" y="3383640"/>
              <a:ext cx="35676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Box 19"/>
            <p:cNvSpPr/>
            <p:nvPr/>
          </p:nvSpPr>
          <p:spPr>
            <a:xfrm>
              <a:off x="3024000" y="2987280"/>
              <a:ext cx="323640" cy="28872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j0157047"/>
          <p:cNvPicPr/>
          <p:nvPr/>
        </p:nvPicPr>
        <p:blipFill>
          <a:blip r:embed="rId1"/>
          <a:stretch/>
        </p:blipFill>
        <p:spPr>
          <a:xfrm>
            <a:off x="5848200" y="1676520"/>
            <a:ext cx="2838600" cy="4800600"/>
          </a:xfrm>
          <a:prstGeom prst="rect">
            <a:avLst/>
          </a:prstGeom>
          <a:ln w="0">
            <a:noFill/>
          </a:ln>
        </p:spPr>
      </p:pic>
      <p:sp>
        <p:nvSpPr>
          <p:cNvPr id="11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CAB7-5FFD-47AD-AEC7-83D6BBF5D8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и срок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65534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спользуйте показ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а до тех пор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 о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тается информативным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Text Box 5"/>
          <p:cNvSpPr/>
          <p:nvPr/>
        </p:nvSpPr>
        <p:spPr>
          <a:xfrm>
            <a:off x="763920" y="4876920"/>
            <a:ext cx="52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Не привязывайтесь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своим показателям</a:t>
            </a:r>
            <a:r>
              <a:rPr b="1" lang="en-US" sz="3600" spc="-1" strike="noStrike">
                <a:solidFill>
                  <a:srgbClr val="ff000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8108-514F-40BB-9712-248F2E5974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ыводы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Oval 3"/>
          <p:cNvSpPr/>
          <p:nvPr/>
        </p:nvSpPr>
        <p:spPr>
          <a:xfrm>
            <a:off x="114300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4"/>
          <p:cNvSpPr/>
          <p:nvPr/>
        </p:nvSpPr>
        <p:spPr>
          <a:xfrm>
            <a:off x="1371600" y="1523880"/>
            <a:ext cx="28195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5"/>
          <p:cNvSpPr/>
          <p:nvPr/>
        </p:nvSpPr>
        <p:spPr>
          <a:xfrm>
            <a:off x="3352680" y="2895480"/>
            <a:ext cx="20574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6"/>
          <p:cNvSpPr/>
          <p:nvPr/>
        </p:nvSpPr>
        <p:spPr>
          <a:xfrm>
            <a:off x="76320" y="2895480"/>
            <a:ext cx="2743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7"/>
          <p:cNvSpPr/>
          <p:nvPr/>
        </p:nvSpPr>
        <p:spPr>
          <a:xfrm>
            <a:off x="1600200" y="4343400"/>
            <a:ext cx="2895480" cy="2133720"/>
          </a:xfrm>
          <a:custGeom>
            <a:avLst/>
            <a:gdLst>
              <a:gd name="textAreaLeft" fmla="*/ 775080 w 2895480"/>
              <a:gd name="textAreaRight" fmla="*/ 2120400 w 2895480"/>
              <a:gd name="textAreaTop" fmla="*/ 571320 h 2133720"/>
              <a:gd name="textAreaBottom" fmla="*/ 156240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ый этап важен для того, чтобы цикл качества рабо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11" descr="head"/>
          <p:cNvPicPr/>
          <p:nvPr/>
        </p:nvPicPr>
        <p:blipFill>
          <a:blip r:embed="rId1"/>
          <a:stretch/>
        </p:blipFill>
        <p:spPr>
          <a:xfrm>
            <a:off x="491328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EEBE-533B-4F15-8B86-11F4A5DBAA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1629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положения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о важ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стоянное улучшение – это центральная часть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580B-9976-49A6-A53B-D827A88289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161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6"/>
            <p:cNvSpPr/>
            <p:nvPr/>
          </p:nvSpPr>
          <p:spPr>
            <a:xfrm>
              <a:off x="1062720" y="3061440"/>
              <a:ext cx="152280" cy="9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4"/>
            <p:cNvSpPr/>
            <p:nvPr/>
          </p:nvSpPr>
          <p:spPr>
            <a:xfrm flipH="1" flipV="1">
              <a:off x="2673000" y="5500440"/>
              <a:ext cx="10080" cy="432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7"/>
            <p:cNvSpPr/>
            <p:nvPr/>
          </p:nvSpPr>
          <p:spPr>
            <a:xfrm>
              <a:off x="4066920" y="1722600"/>
              <a:ext cx="144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7"/>
            <p:cNvSpPr/>
            <p:nvPr/>
          </p:nvSpPr>
          <p:spPr>
            <a:xfrm>
              <a:off x="2616840" y="1862640"/>
              <a:ext cx="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7"/>
            <p:cNvSpPr/>
            <p:nvPr/>
          </p:nvSpPr>
          <p:spPr>
            <a:xfrm>
              <a:off x="1095840" y="1904400"/>
              <a:ext cx="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7"/>
            <p:cNvSpPr/>
            <p:nvPr/>
          </p:nvSpPr>
          <p:spPr>
            <a:xfrm flipH="1">
              <a:off x="816120" y="176616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5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176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177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178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Text Box 71"/>
              <p:cNvSpPr/>
              <p:nvPr/>
            </p:nvSpPr>
            <p:spPr>
              <a:xfrm>
                <a:off x="561600" y="159228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183" name="Freeform 73"/>
              <p:cNvSpPr/>
              <p:nvPr/>
            </p:nvSpPr>
            <p:spPr>
              <a:xfrm>
                <a:off x="2078640" y="1223640"/>
                <a:ext cx="1045080" cy="103536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Text Box 74"/>
              <p:cNvSpPr/>
              <p:nvPr/>
            </p:nvSpPr>
            <p:spPr>
              <a:xfrm>
                <a:off x="2043360" y="15937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186" name="Group 76"/>
              <p:cNvGrpSpPr/>
              <p:nvPr/>
            </p:nvGrpSpPr>
            <p:grpSpPr>
              <a:xfrm>
                <a:off x="3536280" y="1223640"/>
                <a:ext cx="1048680" cy="1035360"/>
                <a:chOff x="3536280" y="1223640"/>
                <a:chExt cx="1048680" cy="1035360"/>
              </a:xfrm>
            </p:grpSpPr>
            <p:sp>
              <p:nvSpPr>
                <p:cNvPr id="1187" name="Freeform 77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78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9" name="Text Box 79"/>
              <p:cNvSpPr/>
              <p:nvPr/>
            </p:nvSpPr>
            <p:spPr>
              <a:xfrm>
                <a:off x="3495240" y="159624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192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Freeform 31"/>
            <p:cNvSpPr/>
            <p:nvPr/>
          </p:nvSpPr>
          <p:spPr>
            <a:xfrm>
              <a:off x="2086560" y="244368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197" name="Freeform 48"/>
              <p:cNvSpPr/>
              <p:nvPr/>
            </p:nvSpPr>
            <p:spPr>
              <a:xfrm>
                <a:off x="3512520" y="2404800"/>
                <a:ext cx="1047960" cy="1035360"/>
              </a:xfrm>
              <a:custGeom>
                <a:avLst/>
                <a:gdLst>
                  <a:gd name="textAreaLeft" fmla="*/ 0 w 1047960"/>
                  <a:gd name="textAreaRight" fmla="*/ 1048320 w 10479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Text Box 55"/>
              <p:cNvSpPr/>
              <p:nvPr/>
            </p:nvSpPr>
            <p:spPr>
              <a:xfrm>
                <a:off x="3489480" y="273996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Line 27"/>
            <p:cNvSpPr/>
            <p:nvPr/>
          </p:nvSpPr>
          <p:spPr>
            <a:xfrm flipH="1">
              <a:off x="816120" y="405108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0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201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Text Box 82"/>
              <p:cNvSpPr/>
              <p:nvPr/>
            </p:nvSpPr>
            <p:spPr>
              <a:xfrm>
                <a:off x="541080" y="384948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204" name="Freeform 30"/>
              <p:cNvSpPr/>
              <p:nvPr/>
            </p:nvSpPr>
            <p:spPr>
              <a:xfrm>
                <a:off x="2066040" y="3572280"/>
                <a:ext cx="1045800" cy="103680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Text Box 54"/>
              <p:cNvSpPr/>
              <p:nvPr/>
            </p:nvSpPr>
            <p:spPr>
              <a:xfrm>
                <a:off x="2043360" y="378828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Freeform 50"/>
            <p:cNvSpPr/>
            <p:nvPr/>
          </p:nvSpPr>
          <p:spPr>
            <a:xfrm>
              <a:off x="3513960" y="356616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51"/>
            <p:cNvSpPr/>
            <p:nvPr/>
          </p:nvSpPr>
          <p:spPr>
            <a:xfrm>
              <a:off x="3485160" y="3941640"/>
              <a:ext cx="112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7"/>
            <p:cNvSpPr/>
            <p:nvPr/>
          </p:nvSpPr>
          <p:spPr>
            <a:xfrm flipH="1">
              <a:off x="883800" y="5227920"/>
              <a:ext cx="356148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210" name="Freeform 57"/>
              <p:cNvSpPr/>
              <p:nvPr/>
            </p:nvSpPr>
            <p:spPr>
              <a:xfrm>
                <a:off x="60732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213" name="Freeform 34"/>
              <p:cNvSpPr/>
              <p:nvPr/>
            </p:nvSpPr>
            <p:spPr>
              <a:xfrm>
                <a:off x="2084760" y="4686840"/>
                <a:ext cx="1042560" cy="1035720"/>
              </a:xfrm>
              <a:custGeom>
                <a:avLst/>
                <a:gdLst>
                  <a:gd name="textAreaLeft" fmla="*/ 0 w 1042560"/>
                  <a:gd name="textAreaRight" fmla="*/ 1042920 w 104256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216" name="Freeform 63"/>
              <p:cNvSpPr/>
              <p:nvPr/>
            </p:nvSpPr>
            <p:spPr>
              <a:xfrm>
                <a:off x="3528000" y="4746240"/>
                <a:ext cx="1047240" cy="1035360"/>
              </a:xfrm>
              <a:custGeom>
                <a:avLst/>
                <a:gdLst>
                  <a:gd name="textAreaLeft" fmla="*/ 0 w 1047240"/>
                  <a:gd name="textAreaRight" fmla="*/ 1047600 w 10472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Arial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7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8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8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8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8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8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8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821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8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8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833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8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842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845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9121-79DB-43B7-A37A-587B2F034C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003F-4007-4634-9BDF-AAC418E345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1760" y="428400"/>
            <a:ext cx="64422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. </a:t>
            </a: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Эдвардс Деминг</a:t>
            </a:r>
            <a:br>
              <a:rPr sz="44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14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ринципов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35128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охраняйте верность цели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лучшайте постоянно, сегодня и всег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4" name="Text Box 5"/>
          <p:cNvSpPr/>
          <p:nvPr/>
        </p:nvSpPr>
        <p:spPr>
          <a:xfrm>
            <a:off x="609480" y="20271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а принципа относятся к постоянному улучше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44C8-8083-4D8B-AABC-2555482A67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икл Деминг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8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3"/>
          <p:cNvSpPr/>
          <p:nvPr/>
        </p:nvSpPr>
        <p:spPr>
          <a:xfrm>
            <a:off x="2514600" y="1295280"/>
            <a:ext cx="4876920" cy="487692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"/>
          <p:cNvSpPr/>
          <p:nvPr/>
        </p:nvSpPr>
        <p:spPr>
          <a:xfrm>
            <a:off x="1609560" y="2971800"/>
            <a:ext cx="2124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4"/>
          <p:cNvSpPr/>
          <p:nvPr/>
        </p:nvSpPr>
        <p:spPr>
          <a:xfrm>
            <a:off x="3809880" y="1143000"/>
            <a:ext cx="22719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4"/>
          <p:cNvSpPr/>
          <p:nvPr/>
        </p:nvSpPr>
        <p:spPr>
          <a:xfrm>
            <a:off x="6400800" y="2895480"/>
            <a:ext cx="19051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4"/>
          <p:cNvSpPr/>
          <p:nvPr/>
        </p:nvSpPr>
        <p:spPr>
          <a:xfrm>
            <a:off x="3962520" y="5029200"/>
            <a:ext cx="19047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75"/>
          <p:cNvSpPr/>
          <p:nvPr/>
        </p:nvSpPr>
        <p:spPr>
          <a:xfrm rot="18073200">
            <a:off x="2819520" y="175212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76"/>
          <p:cNvSpPr/>
          <p:nvPr/>
        </p:nvSpPr>
        <p:spPr>
          <a:xfrm rot="13538400">
            <a:off x="2819160" y="502884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77"/>
          <p:cNvSpPr/>
          <p:nvPr/>
        </p:nvSpPr>
        <p:spPr>
          <a:xfrm rot="7687200">
            <a:off x="6476760" y="4952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78"/>
          <p:cNvSpPr/>
          <p:nvPr/>
        </p:nvSpPr>
        <p:spPr>
          <a:xfrm rot="2166600">
            <a:off x="6248160" y="1523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BC16-5ED6-44F2-AF99-4958AED96D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остоянное улучшение </a:t>
            </a:r>
            <a:br>
              <a:rPr sz="3600"/>
            </a:b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15189:2007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рабо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0" y="1600200"/>
            <a:ext cx="4383000" cy="32004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яв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тен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7"/>
          <p:cNvSpPr/>
          <p:nvPr/>
        </p:nvSpPr>
        <p:spPr>
          <a:xfrm>
            <a:off x="6039000" y="4800600"/>
            <a:ext cx="257148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анализир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прав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9"/>
          <p:cNvSpPr/>
          <p:nvPr/>
        </p:nvSpPr>
        <p:spPr>
          <a:xfrm rot="20602200">
            <a:off x="2917440" y="1769760"/>
            <a:ext cx="3021120" cy="1143000"/>
          </a:xfrm>
          <a:custGeom>
            <a:avLst/>
            <a:gdLst>
              <a:gd name="textAreaLeft" fmla="*/ 471960 w 3021120"/>
              <a:gd name="textAreaRight" fmla="*/ 2643480 w 30211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Diagram 2"/>
          <p:cNvGrpSpPr/>
          <p:nvPr/>
        </p:nvGrpSpPr>
        <p:grpSpPr>
          <a:xfrm>
            <a:off x="4961880" y="3429000"/>
            <a:ext cx="2649960" cy="2247840"/>
            <a:chOff x="4961880" y="3429000"/>
            <a:chExt cx="2649960" cy="2247840"/>
          </a:xfrm>
        </p:grpSpPr>
        <p:sp>
          <p:nvSpPr>
            <p:cNvPr id="878" name="_s1028"/>
            <p:cNvSpPr/>
            <p:nvPr/>
          </p:nvSpPr>
          <p:spPr>
            <a:xfrm>
              <a:off x="5468040" y="3429000"/>
              <a:ext cx="1636560" cy="1571400"/>
            </a:xfrm>
            <a:custGeom>
              <a:avLst/>
              <a:gdLst>
                <a:gd name="textAreaLeft" fmla="*/ 240120 w 1636560"/>
                <a:gd name="textAreaRight" fmla="*/ 1396440 w 1636560"/>
                <a:gd name="textAreaTop" fmla="*/ 230400 h 1571400"/>
                <a:gd name="textAreaBottom" fmla="*/ 134100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_s1029"/>
            <p:cNvSpPr/>
            <p:nvPr/>
          </p:nvSpPr>
          <p:spPr>
            <a:xfrm rot="7200000">
              <a:off x="5724720" y="3767760"/>
              <a:ext cx="1571040" cy="1636560"/>
            </a:xfrm>
            <a:custGeom>
              <a:avLst/>
              <a:gdLst>
                <a:gd name="textAreaLeft" fmla="*/ 230400 w 1571040"/>
                <a:gd name="textAreaRight" fmla="*/ 1340640 w 157104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_s1030"/>
            <p:cNvSpPr/>
            <p:nvPr/>
          </p:nvSpPr>
          <p:spPr>
            <a:xfrm rot="14400000">
              <a:off x="5277240" y="3768840"/>
              <a:ext cx="1571400" cy="1636560"/>
            </a:xfrm>
            <a:custGeom>
              <a:avLst/>
              <a:gdLst>
                <a:gd name="textAreaLeft" fmla="*/ 230400 w 1571400"/>
                <a:gd name="textAreaRight" fmla="*/ 1341000 w 157140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_s1031"/>
            <p:cNvSpPr/>
            <p:nvPr/>
          </p:nvSpPr>
          <p:spPr>
            <a:xfrm>
              <a:off x="673452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_s1032"/>
            <p:cNvSpPr/>
            <p:nvPr/>
          </p:nvSpPr>
          <p:spPr>
            <a:xfrm>
              <a:off x="5958000" y="500796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033"/>
            <p:cNvSpPr/>
            <p:nvPr/>
          </p:nvSpPr>
          <p:spPr>
            <a:xfrm>
              <a:off x="518148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AutoShape 19"/>
          <p:cNvSpPr/>
          <p:nvPr/>
        </p:nvSpPr>
        <p:spPr>
          <a:xfrm flipH="1" rot="16200000">
            <a:off x="7657920" y="3009600"/>
            <a:ext cx="1066680" cy="533520"/>
          </a:xfrm>
          <a:custGeom>
            <a:avLst/>
            <a:gdLst>
              <a:gd name="textAreaLeft" fmla="*/ 166320 w 1066680"/>
              <a:gd name="textAreaRight" fmla="*/ 93312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32A5-42C8-43C7-A95B-02A52F4AB1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радиционные средства для улучш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0520"/>
            <a:ext cx="83059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утренние ауди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яя оценка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ий аудит и аккреди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анализ руководств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зможности для улучш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73994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тслеживание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7C46-D7BD-46A7-9EF7-C60BE8B2F4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0"/>
          <p:cNvSpPr/>
          <p:nvPr/>
        </p:nvSpPr>
        <p:spPr>
          <a:xfrm>
            <a:off x="380880" y="1143000"/>
            <a:ext cx="8229600" cy="1143000"/>
          </a:xfrm>
          <a:prstGeom prst="bevel">
            <a:avLst>
              <a:gd name="adj" fmla="val 125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лан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1"/>
          <p:cNvSpPr/>
          <p:nvPr/>
        </p:nvSpPr>
        <p:spPr>
          <a:xfrm>
            <a:off x="152280" y="2743200"/>
            <a:ext cx="211608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2"/>
          <p:cNvSpPr/>
          <p:nvPr/>
        </p:nvSpPr>
        <p:spPr>
          <a:xfrm>
            <a:off x="2465280" y="27432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4"/>
          <p:cNvSpPr/>
          <p:nvPr/>
        </p:nvSpPr>
        <p:spPr>
          <a:xfrm>
            <a:off x="6858000" y="27432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35"/>
          <p:cNvSpPr/>
          <p:nvPr/>
        </p:nvSpPr>
        <p:spPr>
          <a:xfrm>
            <a:off x="2255760" y="5257800"/>
            <a:ext cx="4525920" cy="11430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Цель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83808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632412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8"/>
          <p:cNvSpPr/>
          <p:nvPr/>
        </p:nvSpPr>
        <p:spPr>
          <a:xfrm flipH="1">
            <a:off x="5486400" y="35812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9"/>
          <p:cNvSpPr/>
          <p:nvPr/>
        </p:nvSpPr>
        <p:spPr>
          <a:xfrm>
            <a:off x="3200400" y="358128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40"/>
          <p:cNvSpPr/>
          <p:nvPr/>
        </p:nvSpPr>
        <p:spPr>
          <a:xfrm>
            <a:off x="2895480" y="4038480"/>
            <a:ext cx="3429000" cy="914400"/>
          </a:xfrm>
          <a:prstGeom prst="hexagon">
            <a:avLst>
              <a:gd name="adj" fmla="val 93750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зможности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1"/>
          <p:cNvSpPr/>
          <p:nvPr/>
        </p:nvSpPr>
        <p:spPr>
          <a:xfrm>
            <a:off x="4267080" y="4952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42"/>
          <p:cNvSpPr/>
          <p:nvPr/>
        </p:nvSpPr>
        <p:spPr>
          <a:xfrm>
            <a:off x="312408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43"/>
          <p:cNvSpPr/>
          <p:nvPr/>
        </p:nvSpPr>
        <p:spPr>
          <a:xfrm>
            <a:off x="533412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4"/>
          <p:cNvSpPr/>
          <p:nvPr/>
        </p:nvSpPr>
        <p:spPr>
          <a:xfrm>
            <a:off x="9144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5"/>
          <p:cNvSpPr/>
          <p:nvPr/>
        </p:nvSpPr>
        <p:spPr>
          <a:xfrm>
            <a:off x="75438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Content Placeholder 187458"/>
          <p:cNvGrpSpPr/>
          <p:nvPr/>
        </p:nvGrpSpPr>
        <p:grpSpPr>
          <a:xfrm>
            <a:off x="1520640" y="4267080"/>
            <a:ext cx="1988280" cy="1652760"/>
            <a:chOff x="1520640" y="4267080"/>
            <a:chExt cx="1988280" cy="1652760"/>
          </a:xfrm>
        </p:grpSpPr>
        <p:sp>
          <p:nvSpPr>
            <p:cNvPr id="909" name="_s2052"/>
            <p:cNvSpPr/>
            <p:nvPr/>
          </p:nvSpPr>
          <p:spPr>
            <a:xfrm>
              <a:off x="1893960" y="4267080"/>
              <a:ext cx="1241280" cy="114696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68120 h 1146960"/>
                <a:gd name="textAreaBottom" fmla="*/ 978840 h 114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_s2053"/>
            <p:cNvSpPr/>
            <p:nvPr/>
          </p:nvSpPr>
          <p:spPr>
            <a:xfrm rot="7200000">
              <a:off x="2111040" y="449064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_s2054"/>
            <p:cNvSpPr/>
            <p:nvPr/>
          </p:nvSpPr>
          <p:spPr>
            <a:xfrm rot="14400000">
              <a:off x="1771200" y="449208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_s2055"/>
            <p:cNvSpPr/>
            <p:nvPr/>
          </p:nvSpPr>
          <p:spPr>
            <a:xfrm>
              <a:off x="285444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_s2056"/>
            <p:cNvSpPr/>
            <p:nvPr/>
          </p:nvSpPr>
          <p:spPr>
            <a:xfrm>
              <a:off x="2265480" y="541980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_s2057"/>
            <p:cNvSpPr/>
            <p:nvPr/>
          </p:nvSpPr>
          <p:spPr>
            <a:xfrm>
              <a:off x="167652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Content Placeholder 187448"/>
          <p:cNvGrpSpPr/>
          <p:nvPr/>
        </p:nvGrpSpPr>
        <p:grpSpPr>
          <a:xfrm>
            <a:off x="5947560" y="4343400"/>
            <a:ext cx="1897200" cy="1576080"/>
            <a:chOff x="5947560" y="4343400"/>
            <a:chExt cx="1897200" cy="1576080"/>
          </a:xfrm>
        </p:grpSpPr>
        <p:sp>
          <p:nvSpPr>
            <p:cNvPr id="916" name="_s2060"/>
            <p:cNvSpPr/>
            <p:nvPr/>
          </p:nvSpPr>
          <p:spPr>
            <a:xfrm>
              <a:off x="6303240" y="4343400"/>
              <a:ext cx="1184760" cy="1094040"/>
            </a:xfrm>
            <a:custGeom>
              <a:avLst/>
              <a:gdLst>
                <a:gd name="textAreaLeft" fmla="*/ 173520 w 1184760"/>
                <a:gd name="textAreaRight" fmla="*/ 1011240 w 1184760"/>
                <a:gd name="textAreaTop" fmla="*/ 160560 h 1094040"/>
                <a:gd name="textAreaBottom" fmla="*/ 933480 h 10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_s2061"/>
            <p:cNvSpPr/>
            <p:nvPr/>
          </p:nvSpPr>
          <p:spPr>
            <a:xfrm rot="7200000">
              <a:off x="6511320" y="4556160"/>
              <a:ext cx="1093680" cy="1185120"/>
            </a:xfrm>
            <a:custGeom>
              <a:avLst/>
              <a:gdLst>
                <a:gd name="textAreaLeft" fmla="*/ 160200 w 1093680"/>
                <a:gd name="textAreaRight" fmla="*/ 933480 w 1093680"/>
                <a:gd name="textAreaTop" fmla="*/ 173880 h 1185120"/>
                <a:gd name="textAreaBottom" fmla="*/ 1011240 h 118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_s2062"/>
            <p:cNvSpPr/>
            <p:nvPr/>
          </p:nvSpPr>
          <p:spPr>
            <a:xfrm rot="14400000">
              <a:off x="6186600" y="4556880"/>
              <a:ext cx="1094040" cy="1184760"/>
            </a:xfrm>
            <a:custGeom>
              <a:avLst/>
              <a:gdLst>
                <a:gd name="textAreaLeft" fmla="*/ 160560 w 1094040"/>
                <a:gd name="textAreaRight" fmla="*/ 933480 w 1094040"/>
                <a:gd name="textAreaTop" fmla="*/ 173520 h 1184760"/>
                <a:gd name="textAreaBottom" fmla="*/ 1011240 h 118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_s2063"/>
            <p:cNvSpPr/>
            <p:nvPr/>
          </p:nvSpPr>
          <p:spPr>
            <a:xfrm>
              <a:off x="722052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_s2064"/>
            <p:cNvSpPr/>
            <p:nvPr/>
          </p:nvSpPr>
          <p:spPr>
            <a:xfrm>
              <a:off x="6658200" y="544248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_s2065"/>
            <p:cNvSpPr/>
            <p:nvPr/>
          </p:nvSpPr>
          <p:spPr>
            <a:xfrm>
              <a:off x="609588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AutoShape 76"/>
          <p:cNvSpPr/>
          <p:nvPr/>
        </p:nvSpPr>
        <p:spPr>
          <a:xfrm>
            <a:off x="4641840" y="2743200"/>
            <a:ext cx="20192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8"/>
          <p:cNvSpPr/>
          <p:nvPr/>
        </p:nvSpPr>
        <p:spPr>
          <a:xfrm>
            <a:off x="13716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78"/>
          <p:cNvSpPr/>
          <p:nvPr/>
        </p:nvSpPr>
        <p:spPr>
          <a:xfrm>
            <a:off x="3600360" y="2411280"/>
            <a:ext cx="175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8"/>
          <p:cNvSpPr/>
          <p:nvPr/>
        </p:nvSpPr>
        <p:spPr>
          <a:xfrm>
            <a:off x="57960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9T13:55:49Z</dcterms:modified>
  <cp:revision>222</cp:revision>
  <dc:subject/>
  <dc:title>Slide 1</dc:title>
</cp:coreProperties>
</file>